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3C1-D384-48AC-9254-C0161687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29D-74AE-442B-B726-1629E45C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F94-0707-4574-907B-C6DEABAE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8E4-8F94-48BD-AEBC-6499C6E3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536-5B81-41D0-8882-7C755816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9DB-1527-4212-B48C-E0094111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E53-809C-47E0-98B1-97F95DFE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280-BB04-428C-9B48-2A1A0B91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C45-ECD8-4FD0-8247-B827F7E2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562-3B34-4ED0-AAD7-033EA818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100-3A8D-4E07-8B79-B90D733E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D2D-9A3A-4170-B848-26932D48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FFCA-1F2D-4041-9D1F-44E6E39F5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gnodia St Lou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0720" y="2133720"/>
            <a:ext cx="617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sonal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was born in the Dominican Republi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came to the United States 20 years 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am the mother of two beautiful child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219320" y="1523880"/>
            <a:ext cx="52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ichard St Lo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cky is 17 year o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is a senior at Central Catholic High Scho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has been accepted at South New Hampshire Univers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is very happy about his new college lif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133720" y="2895480"/>
            <a:ext cx="33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52280" y="2286000"/>
            <a:ext cx="685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issa St Lo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issa is 13 year o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e has been accepted at Central Catholic High Scho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e has a very happy and easy going  personal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066680" y="2362320"/>
            <a:ext cx="6477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son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main goal in life is to build a strong character child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 them the best education that I can affo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t my degree in Multidisciplina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t My Master degree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20:15:22Z</dcterms:created>
  <dc:creator>ccstudent</dc:creator>
  <dc:description/>
  <dc:language>en-US</dc:language>
  <cp:lastModifiedBy>ccstudent</cp:lastModifiedBy>
  <dcterms:modified xsi:type="dcterms:W3CDTF">2011-02-05T20:35:28Z</dcterms:modified>
  <cp:revision>2</cp:revision>
  <dc:subject/>
  <dc:title>My Life</dc:title>
</cp:coreProperties>
</file>